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17.png" ContentType="image/png"/>
  <Override PartName="/ppt/media/image2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5.jpeg" ContentType="image/jpeg"/>
  <Override PartName="/ppt/media/image20.wmf" ContentType="image/x-wmf"/>
  <Override PartName="/ppt/media/image18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380520"/>
            <a:ext cx="7391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380520"/>
            <a:ext cx="7391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1" marL="603360" indent="-603360">
              <a:spcBef>
                <a:spcPts val="7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2" marL="603360" indent="-603360">
              <a:spcBef>
                <a:spcPts val="799"/>
              </a:spcBef>
              <a:buClr>
                <a:srgbClr val="003399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3" marL="603360" indent="-603360">
              <a:spcBef>
                <a:spcPts val="799"/>
              </a:spcBef>
              <a:buClr>
                <a:srgbClr val="003399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4" marL="603360" indent="-603360">
              <a:spcBef>
                <a:spcPts val="799"/>
              </a:spcBef>
              <a:buClr>
                <a:srgbClr val="003399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5" marL="603360" indent="-60336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6" marL="603360" indent="-60336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" name=""/>
          <p:cNvSpPr/>
          <p:nvPr/>
        </p:nvSpPr>
        <p:spPr>
          <a:xfrm>
            <a:off x="228600" y="6324480"/>
            <a:ext cx="206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Comic Sans MS"/>
              </a:rPr>
              <a:t>5 april 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946240" y="6381720"/>
            <a:ext cx="33022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Comic Sans MS"/>
              </a:rPr>
              <a:t>J.E Campag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929280" y="6324480"/>
            <a:ext cx="2062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08A89-D00C-4BF6-9742-ADF736D929E9}" type="slidenum">
              <a:rPr b="0" lang="en-US" sz="1400" spc="-1" strike="noStrike">
                <a:solidFill>
                  <a:srgbClr val="003399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809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304920"/>
            <a:ext cx="7086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676520" y="563400"/>
            <a:ext cx="6095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6324480"/>
            <a:ext cx="206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Comic Sans MS"/>
              </a:rPr>
              <a:t>5 april 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68480" y="6453360"/>
            <a:ext cx="33022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Comic Sans MS"/>
              </a:rPr>
              <a:t>J.E Campag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093080" y="152280"/>
            <a:ext cx="1670040" cy="658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3399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3399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geant4.com/hadronics/GHAD/HomePage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116000" y="270828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Proton On Target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G4 v7.0 exercise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Physical case: see M. Bonesini et al. 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hep-ph/0101163 published in EPJC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(24 GeV/c)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Be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Eichten et al. NP B44(92)333. )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2859" t="48487" r="6618" b="3696"/>
          <a:stretch/>
        </p:blipFill>
        <p:spPr>
          <a:xfrm>
            <a:off x="395280" y="1268280"/>
            <a:ext cx="4896000" cy="5113440"/>
          </a:xfrm>
          <a:prstGeom prst="rect">
            <a:avLst/>
          </a:prstGeom>
          <a:ln w="0">
            <a:noFill/>
          </a:ln>
        </p:spPr>
      </p:pic>
      <p:grpSp>
        <p:nvGrpSpPr>
          <p:cNvPr id="140" name=""/>
          <p:cNvGrpSpPr/>
          <p:nvPr/>
        </p:nvGrpSpPr>
        <p:grpSpPr>
          <a:xfrm>
            <a:off x="5651640" y="1844640"/>
            <a:ext cx="3017520" cy="4152960"/>
            <a:chOff x="5651640" y="1844640"/>
            <a:chExt cx="3017520" cy="4152960"/>
          </a:xfrm>
        </p:grpSpPr>
        <p:pic>
          <p:nvPicPr>
            <p:cNvPr id="141" name="" descr=""/>
            <p:cNvPicPr/>
            <p:nvPr/>
          </p:nvPicPr>
          <p:blipFill>
            <a:blip r:embed="rId2"/>
            <a:stretch/>
          </p:blipFill>
          <p:spPr>
            <a:xfrm>
              <a:off x="5651640" y="1844640"/>
              <a:ext cx="3017520" cy="415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6588000" y="2492280"/>
              <a:ext cx="2016360" cy="2016360"/>
            </a:xfrm>
            <a:custGeom>
              <a:avLst/>
              <a:gdLst/>
              <a:ahLst/>
              <a:rect l="l" t="t" r="r" b="b"/>
              <a:pathLst>
                <a:path w="1270" h="1270">
                  <a:moveTo>
                    <a:pt x="0" y="0"/>
                  </a:moveTo>
                  <a:cubicBezTo>
                    <a:pt x="38" y="26"/>
                    <a:pt x="158" y="108"/>
                    <a:pt x="226" y="154"/>
                  </a:cubicBezTo>
                  <a:cubicBezTo>
                    <a:pt x="294" y="200"/>
                    <a:pt x="330" y="224"/>
                    <a:pt x="406" y="274"/>
                  </a:cubicBezTo>
                  <a:cubicBezTo>
                    <a:pt x="482" y="324"/>
                    <a:pt x="589" y="379"/>
                    <a:pt x="680" y="454"/>
                  </a:cubicBezTo>
                  <a:cubicBezTo>
                    <a:pt x="771" y="529"/>
                    <a:pt x="877" y="635"/>
                    <a:pt x="953" y="726"/>
                  </a:cubicBezTo>
                  <a:cubicBezTo>
                    <a:pt x="1029" y="817"/>
                    <a:pt x="1089" y="915"/>
                    <a:pt x="1134" y="998"/>
                  </a:cubicBezTo>
                  <a:cubicBezTo>
                    <a:pt x="1179" y="1081"/>
                    <a:pt x="1202" y="1180"/>
                    <a:pt x="1225" y="1225"/>
                  </a:cubicBezTo>
                  <a:cubicBezTo>
                    <a:pt x="1248" y="1270"/>
                    <a:pt x="1259" y="1270"/>
                    <a:pt x="1270" y="127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559560" y="2522520"/>
              <a:ext cx="1911240" cy="2621160"/>
            </a:xfrm>
            <a:custGeom>
              <a:avLst/>
              <a:gdLst/>
              <a:ahLst/>
              <a:rect l="l" t="t" r="r" b="b"/>
              <a:pathLst>
                <a:path w="1204" h="1651">
                  <a:moveTo>
                    <a:pt x="154" y="117"/>
                  </a:moveTo>
                  <a:cubicBezTo>
                    <a:pt x="133" y="103"/>
                    <a:pt x="0" y="0"/>
                    <a:pt x="28" y="31"/>
                  </a:cubicBezTo>
                  <a:cubicBezTo>
                    <a:pt x="56" y="62"/>
                    <a:pt x="245" y="230"/>
                    <a:pt x="320" y="303"/>
                  </a:cubicBezTo>
                  <a:cubicBezTo>
                    <a:pt x="395" y="376"/>
                    <a:pt x="419" y="398"/>
                    <a:pt x="480" y="467"/>
                  </a:cubicBezTo>
                  <a:cubicBezTo>
                    <a:pt x="541" y="536"/>
                    <a:pt x="620" y="632"/>
                    <a:pt x="688" y="719"/>
                  </a:cubicBezTo>
                  <a:cubicBezTo>
                    <a:pt x="756" y="806"/>
                    <a:pt x="831" y="901"/>
                    <a:pt x="888" y="991"/>
                  </a:cubicBezTo>
                  <a:cubicBezTo>
                    <a:pt x="945" y="1081"/>
                    <a:pt x="991" y="1184"/>
                    <a:pt x="1028" y="1259"/>
                  </a:cubicBezTo>
                  <a:cubicBezTo>
                    <a:pt x="1065" y="1334"/>
                    <a:pt x="1091" y="1394"/>
                    <a:pt x="1112" y="1443"/>
                  </a:cubicBezTo>
                  <a:cubicBezTo>
                    <a:pt x="1133" y="1492"/>
                    <a:pt x="1141" y="1516"/>
                    <a:pt x="1156" y="1551"/>
                  </a:cubicBezTo>
                  <a:cubicBezTo>
                    <a:pt x="1171" y="1586"/>
                    <a:pt x="1194" y="1630"/>
                    <a:pt x="1204" y="1651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588000" y="2637000"/>
              <a:ext cx="1711440" cy="2849400"/>
            </a:xfrm>
            <a:custGeom>
              <a:avLst/>
              <a:gdLst/>
              <a:ahLst/>
              <a:rect l="l" t="t" r="r" b="b"/>
              <a:pathLst>
                <a:path w="1078" h="1795">
                  <a:moveTo>
                    <a:pt x="0" y="0"/>
                  </a:moveTo>
                  <a:cubicBezTo>
                    <a:pt x="28" y="37"/>
                    <a:pt x="106" y="149"/>
                    <a:pt x="166" y="223"/>
                  </a:cubicBezTo>
                  <a:cubicBezTo>
                    <a:pt x="226" y="297"/>
                    <a:pt x="314" y="389"/>
                    <a:pt x="358" y="447"/>
                  </a:cubicBezTo>
                  <a:cubicBezTo>
                    <a:pt x="402" y="505"/>
                    <a:pt x="395" y="515"/>
                    <a:pt x="430" y="571"/>
                  </a:cubicBezTo>
                  <a:cubicBezTo>
                    <a:pt x="465" y="627"/>
                    <a:pt x="515" y="695"/>
                    <a:pt x="570" y="783"/>
                  </a:cubicBezTo>
                  <a:cubicBezTo>
                    <a:pt x="625" y="871"/>
                    <a:pt x="701" y="996"/>
                    <a:pt x="758" y="1099"/>
                  </a:cubicBezTo>
                  <a:cubicBezTo>
                    <a:pt x="815" y="1202"/>
                    <a:pt x="872" y="1314"/>
                    <a:pt x="914" y="1403"/>
                  </a:cubicBezTo>
                  <a:cubicBezTo>
                    <a:pt x="956" y="1492"/>
                    <a:pt x="983" y="1566"/>
                    <a:pt x="1010" y="1631"/>
                  </a:cubicBezTo>
                  <a:cubicBezTo>
                    <a:pt x="1037" y="1696"/>
                    <a:pt x="1064" y="1761"/>
                    <a:pt x="1078" y="1795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588000" y="2739960"/>
              <a:ext cx="1343160" cy="2873520"/>
            </a:xfrm>
            <a:custGeom>
              <a:avLst/>
              <a:gdLst/>
              <a:ahLst/>
              <a:rect l="l" t="t" r="r" b="b"/>
              <a:pathLst>
                <a:path w="846" h="1810">
                  <a:moveTo>
                    <a:pt x="0" y="0"/>
                  </a:moveTo>
                  <a:cubicBezTo>
                    <a:pt x="28" y="51"/>
                    <a:pt x="113" y="206"/>
                    <a:pt x="166" y="306"/>
                  </a:cubicBezTo>
                  <a:cubicBezTo>
                    <a:pt x="219" y="406"/>
                    <a:pt x="280" y="521"/>
                    <a:pt x="318" y="598"/>
                  </a:cubicBezTo>
                  <a:cubicBezTo>
                    <a:pt x="356" y="675"/>
                    <a:pt x="360" y="696"/>
                    <a:pt x="394" y="766"/>
                  </a:cubicBezTo>
                  <a:cubicBezTo>
                    <a:pt x="428" y="836"/>
                    <a:pt x="492" y="948"/>
                    <a:pt x="522" y="1018"/>
                  </a:cubicBezTo>
                  <a:cubicBezTo>
                    <a:pt x="552" y="1088"/>
                    <a:pt x="546" y="1117"/>
                    <a:pt x="574" y="1186"/>
                  </a:cubicBezTo>
                  <a:cubicBezTo>
                    <a:pt x="602" y="1255"/>
                    <a:pt x="661" y="1363"/>
                    <a:pt x="690" y="1430"/>
                  </a:cubicBezTo>
                  <a:cubicBezTo>
                    <a:pt x="719" y="1497"/>
                    <a:pt x="733" y="1541"/>
                    <a:pt x="750" y="1586"/>
                  </a:cubicBezTo>
                  <a:cubicBezTo>
                    <a:pt x="767" y="1631"/>
                    <a:pt x="779" y="1674"/>
                    <a:pt x="790" y="1698"/>
                  </a:cubicBezTo>
                  <a:cubicBezTo>
                    <a:pt x="801" y="1722"/>
                    <a:pt x="805" y="1711"/>
                    <a:pt x="814" y="1730"/>
                  </a:cubicBezTo>
                  <a:cubicBezTo>
                    <a:pt x="823" y="1749"/>
                    <a:pt x="839" y="1793"/>
                    <a:pt x="846" y="181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6531840" y="1413000"/>
            <a:ext cx="17139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 + BM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041560" y="6021360"/>
            <a:ext cx="21603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4QGSP + BM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522920" y="2060640"/>
            <a:ext cx="584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 baseline="30000">
                <a:solidFill>
                  <a:srgbClr val="0066ff"/>
                </a:solidFill>
                <a:latin typeface="Comic Sans MS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(24 GeV/c)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Be (suite)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66560" y="2239920"/>
            <a:ext cx="4105440" cy="3060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003640" y="1268280"/>
            <a:ext cx="3986280" cy="30225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5219640" y="3929040"/>
            <a:ext cx="3600360" cy="27716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268280" y="148428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4QGSP + BMT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Geant4 Hadronic Physic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258560"/>
            <a:ext cx="777240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Comic Sans MS"/>
              </a:rPr>
              <a:t>Binary cascade: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Concluded inclusion of </a:t>
            </a:r>
            <a:r>
              <a:rPr b="0" i="1" lang="en-US" sz="1800" spc="-1" strike="noStrike">
                <a:solidFill>
                  <a:srgbClr val="ff0000"/>
                </a:solidFill>
                <a:latin typeface="Comic Sans MS"/>
              </a:rPr>
              <a:t>pion projectiles 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and light ion reactions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improved transition to pre-equilibrium mod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Comic Sans MS"/>
              </a:rPr>
              <a:t>Bertini Cascade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: extended up to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0 GeV </a:t>
            </a:r>
            <a:r>
              <a:rPr b="1" lang="en-US" sz="1600" spc="-1" strike="noStrike">
                <a:solidFill>
                  <a:srgbClr val="003399"/>
                </a:solidFill>
                <a:latin typeface="Tahoma"/>
              </a:rPr>
              <a:t>(thanks to A Heikinen)</a:t>
            </a: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Comic Sans MS"/>
              </a:rPr>
              <a:t>Scattering term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extended for nucleon induced reactions to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8 GeV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included s-wave absorption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pion induced reactions (up to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.5 GeV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New packages and models: 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99"/>
                </a:solidFill>
                <a:latin typeface="Comic Sans MS"/>
              </a:rPr>
              <a:t>Abrasion/Ablation &amp; EM dissociation 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or ions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99"/>
                </a:solidFill>
                <a:latin typeface="Comic Sans MS"/>
              </a:rPr>
              <a:t>Coherent elastic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 model for high energy elastic scattering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Cross sections: 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Removed discontinuities in pion scattering data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ix in high energy p-H cross-sections (G3 legacy bug)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Particle ID after interaction 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Optional kill primaries – can be steered from user code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56" name=""/>
          <p:cNvSpPr/>
          <p:nvPr/>
        </p:nvSpPr>
        <p:spPr>
          <a:xfrm>
            <a:off x="5149800" y="6093000"/>
            <a:ext cx="358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Slide from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John Apostolak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Hans-Peterr Weilli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533520" y="1676520"/>
            <a:ext cx="8381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K. Nakai at al., PRL 44, 1446 (198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D. Ashery et al, PR C23, 2173 (199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373392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447920" y="327672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i +/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66680" y="3429000"/>
            <a:ext cx="22860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38280" y="3429000"/>
            <a:ext cx="22860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00400" y="2819520"/>
            <a:ext cx="152280" cy="190476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419720" y="2666880"/>
            <a:ext cx="228600" cy="609840"/>
          </a:xfrm>
          <a:prstGeom prst="ellipse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48320" y="3200400"/>
            <a:ext cx="228600" cy="609480"/>
          </a:xfrm>
          <a:prstGeom prst="ellipse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48320" y="3886200"/>
            <a:ext cx="228600" cy="609480"/>
          </a:xfrm>
          <a:prstGeom prst="ellipse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419720" y="4495680"/>
            <a:ext cx="228600" cy="609840"/>
          </a:xfrm>
          <a:prstGeom prst="ellipse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114800" y="2286000"/>
            <a:ext cx="228600" cy="609480"/>
          </a:xfrm>
          <a:prstGeom prst="ellipse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14800" y="4952880"/>
            <a:ext cx="228600" cy="609840"/>
          </a:xfrm>
          <a:prstGeom prst="ellipse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914400" y="4190760"/>
            <a:ext cx="1522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990720" y="4190760"/>
            <a:ext cx="12189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981080" y="518148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n target (Al, Cu, Au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2743200" y="449532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5029200" y="4495320"/>
            <a:ext cx="3808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0" y="548640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c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4800600"/>
            <a:ext cx="213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am monitoring count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Pion absorption – experiments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77" name=""/>
          <p:cNvSpPr/>
          <p:nvPr/>
        </p:nvSpPr>
        <p:spPr>
          <a:xfrm>
            <a:off x="5484960" y="2895480"/>
            <a:ext cx="36576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akai – look for gammas emitted after pion absor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hery – look for transmitted (not absorbed) p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791320" y="4495680"/>
            <a:ext cx="3198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π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±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beams o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ergies betwe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3 – 315 M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143000" y="914400"/>
            <a:ext cx="53341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69696"/>
                </a:solidFill>
                <a:uFillTx/>
                <a:latin typeface="Comic Sans MS"/>
              </a:rPr>
              <a:t>Witold Pokorski CERN-LCGAPP-2004-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300840" y="6021360"/>
            <a:ext cx="556200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ast LCG Review Alberto Ribon, CERN/PH/SF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Absorption Xsection for π</a:t>
            </a:r>
            <a:r>
              <a:rPr b="0" lang="en-GB" sz="2800" spc="-1" strike="noStrike" baseline="30000">
                <a:solidFill>
                  <a:srgbClr val="003399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4267080" cy="26640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648320" y="838080"/>
            <a:ext cx="4305240" cy="26877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304920" y="3552840"/>
            <a:ext cx="4267080" cy="26636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4648320" y="3809880"/>
            <a:ext cx="42670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same remarks as for pi+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for heavy material (Au) the shape of the QGSP_BERT quite differ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G4: best agreement for ‘medium-weight’ materi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mic Sans MS"/>
              </a:rPr>
              <a:t>Hadronic interactions in ATLAS pixel test-beam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7207200" cy="29988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04920" y="1752480"/>
            <a:ext cx="44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80 GeV/c nomina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+ bea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2120" y="4724280"/>
            <a:ext cx="80899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4952880"/>
            <a:ext cx="739152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ant4 Geometry. Use the same Geometry also with Fluk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ing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FLUGG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interface between the Transportation an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hysics of Fluka and Geant4 Navigation of the Geometry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23880" y="990720"/>
            <a:ext cx="53341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69696"/>
                </a:solidFill>
                <a:uFillTx/>
                <a:latin typeface="Comic Sans MS"/>
              </a:rPr>
              <a:t>Alberto Ribon  CERN-LCGAPP-2004-0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3520" y="475920"/>
            <a:ext cx="6853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Ratio max Eloss / total Eloss</a:t>
            </a: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-95400" y="0"/>
            <a:ext cx="8020080" cy="65102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7467480" y="2133720"/>
            <a:ext cx="1675080" cy="25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GSP is i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cell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gre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ith da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26960" y="380880"/>
            <a:ext cx="69739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Cluster size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30240" y="380880"/>
            <a:ext cx="7665840" cy="62247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7088040" y="152280"/>
            <a:ext cx="205596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GSP produ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o narrow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ust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LUKA, LHE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d QGSC ar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goo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greement wi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086600" y="3505320"/>
            <a:ext cx="2055960" cy="25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conclusio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LUKA, Geant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e in reason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ood agre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ith the data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t som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bservables c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 improv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92280" y="0"/>
            <a:ext cx="71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CMS longitudinal shower profile in HCAL for 100 GeV p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98400" cy="7621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1600200" y="457200"/>
            <a:ext cx="5257800" cy="31543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1600200" y="3581280"/>
            <a:ext cx="533412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or my application???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As a blind user, I have also tried QGSP_XYZ flavours included in the physics_lists/hadronic directory: the results are the same as QGSP 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(except QGSP_HP which seems not to be used for this use case)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I also tried QGSC but the results are worse. 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The goal: from F. Pietropaolo SL seminar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95280" y="1285920"/>
            <a:ext cx="8640720" cy="4968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857920" y="6093000"/>
            <a:ext cx="219996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Reproduce the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distrib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What Nex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54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Discussion engaged with H.P Weillich as soon as he will get a stable position;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marL="5972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Currently, contact with M. Brooks and Walaron from RAL who are doing some tests using MARS and G4 in the context of </a:t>
            </a:r>
            <a:r>
              <a:rPr b="0" lang="en-GB" sz="32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 production in p(2GeV/c – 120GeV/c) + Tantalum target (see last BENE week).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marL="5972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Two students 6 weeks june/july.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marL="5972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924840" y="1821960"/>
            <a:ext cx="6671520" cy="3853800"/>
            <a:chOff x="924840" y="1821960"/>
            <a:chExt cx="6671520" cy="3853800"/>
          </a:xfrm>
        </p:grpSpPr>
        <p:grpSp>
          <p:nvGrpSpPr>
            <p:cNvPr id="90" name=""/>
            <p:cNvGrpSpPr/>
            <p:nvPr/>
          </p:nvGrpSpPr>
          <p:grpSpPr>
            <a:xfrm>
              <a:off x="924840" y="1821960"/>
              <a:ext cx="6671520" cy="3853800"/>
              <a:chOff x="924840" y="1821960"/>
              <a:chExt cx="6671520" cy="3853800"/>
            </a:xfrm>
          </p:grpSpPr>
          <p:pic>
            <p:nvPicPr>
              <p:cNvPr id="91" name="" descr=""/>
              <p:cNvPicPr/>
              <p:nvPr/>
            </p:nvPicPr>
            <p:blipFill>
              <a:blip r:embed="rId1"/>
              <a:srcRect l="4260" t="17657" r="1767" b="8688"/>
              <a:stretch/>
            </p:blipFill>
            <p:spPr>
              <a:xfrm>
                <a:off x="1187280" y="2205000"/>
                <a:ext cx="6337440" cy="3311640"/>
              </a:xfrm>
              <a:prstGeom prst="rect">
                <a:avLst/>
              </a:prstGeom>
              <a:ln w="9360">
                <a:solidFill>
                  <a:srgbClr val="ffffff"/>
                </a:solidFill>
                <a:miter/>
              </a:ln>
            </p:spPr>
          </p:pic>
          <p:sp>
            <p:nvSpPr>
              <p:cNvPr id="92" name=""/>
              <p:cNvSpPr/>
              <p:nvPr/>
            </p:nvSpPr>
            <p:spPr>
              <a:xfrm rot="20398200">
                <a:off x="4572360" y="4870080"/>
                <a:ext cx="2444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160 mm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3" name=""/>
              <p:cNvGrpSpPr/>
              <p:nvPr/>
            </p:nvGrpSpPr>
            <p:grpSpPr>
              <a:xfrm>
                <a:off x="5651640" y="1821960"/>
                <a:ext cx="1944720" cy="1751400"/>
                <a:chOff x="5651640" y="1821960"/>
                <a:chExt cx="1944720" cy="175140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5651640" y="2205000"/>
                  <a:ext cx="1944720" cy="1368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 rot="2173800">
                  <a:off x="5861880" y="2293560"/>
                  <a:ext cx="1727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100 mm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924840" y="4437000"/>
                <a:ext cx="983160" cy="398880"/>
                <a:chOff x="924840" y="4437000"/>
                <a:chExt cx="983160" cy="39888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924840" y="4437000"/>
                  <a:ext cx="8679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2 mm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1908000" y="4581360"/>
                  <a:ext cx="0" cy="21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9" name=""/>
            <p:cNvGrpSpPr/>
            <p:nvPr/>
          </p:nvGrpSpPr>
          <p:grpSpPr>
            <a:xfrm>
              <a:off x="1466640" y="1952640"/>
              <a:ext cx="1689480" cy="1044720"/>
              <a:chOff x="1466640" y="1952640"/>
              <a:chExt cx="1689480" cy="1044720"/>
            </a:xfrm>
          </p:grpSpPr>
          <p:sp>
            <p:nvSpPr>
              <p:cNvPr id="100" name=""/>
              <p:cNvSpPr/>
              <p:nvPr/>
            </p:nvSpPr>
            <p:spPr>
              <a:xfrm>
                <a:off x="1466640" y="1952640"/>
                <a:ext cx="1689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P (400GeV/c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411280" y="2494080"/>
                <a:ext cx="720720" cy="50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The target &amp; beam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3492360" y="4005360"/>
            <a:ext cx="3961080" cy="1511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7520" y="2924280"/>
            <a:ext cx="173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Typical ev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72520" y="3500280"/>
            <a:ext cx="133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 Tar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209720" y="126828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OpenScientist viz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10120" y="5589720"/>
            <a:ext cx="6628680" cy="7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QGSP physics list (cf. Hans-Peter Wellisc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0000"/>
                </a:solidFill>
                <a:uFillTx/>
                <a:latin typeface="Comic Sans MS"/>
                <a:hlinkClick r:id="rId2"/>
              </a:rPr>
              <a:t>http://www.geant4.com/hadronics/GHAD/HomePage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Analysis (simple)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20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Run N</a:t>
            </a:r>
            <a:r>
              <a:rPr b="0" lang="en-GB" sz="2800" spc="-1" strike="noStrike" baseline="-25000">
                <a:solidFill>
                  <a:srgbClr val="003399"/>
                </a:solidFill>
                <a:latin typeface="Comic Sans MS"/>
              </a:rPr>
              <a:t>pot</a:t>
            </a: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=10</a:t>
            </a:r>
            <a:r>
              <a:rPr b="0" lang="en-GB" sz="2800" spc="-1" strike="noStrike" baseline="30000">
                <a:solidFill>
                  <a:srgbClr val="003399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 protons mono-energetic and pencil-like beam on target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6033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Register </a:t>
            </a:r>
            <a:r>
              <a:rPr b="0" lang="en-GB" sz="28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 baseline="30000">
                <a:solidFill>
                  <a:srgbClr val="003399"/>
                </a:solidFill>
                <a:latin typeface="Times New Roman"/>
                <a:ea typeface="Times New Roman"/>
              </a:rPr>
              <a:t>±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K</a:t>
            </a:r>
            <a:r>
              <a:rPr b="0" lang="en-US" sz="2800" spc="-1" strike="noStrike" baseline="30000">
                <a:solidFill>
                  <a:srgbClr val="003399"/>
                </a:solidFill>
                <a:latin typeface="Times New Roman"/>
                <a:ea typeface="Times New Roman"/>
              </a:rPr>
              <a:t>±</a:t>
            </a: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 particles that exit the target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6033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Compute the production cross-section: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258920" y="4392720"/>
                <a:ext cx="6840360" cy="13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σ</m:t>
                        </m:r>
                      </m:num>
                      <m:den>
                        <m:r>
                          <m:t xml:space="preserve">d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f>
                      <m:num>
                        <m:r>
                          <m:t xml:space="preserve">E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A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t</m:t>
                            </m:r>
                          </m:sub>
                        </m:sSub>
                        <m:r>
                          <m:t xml:space="preserve">ρ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u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Δ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Δ</m:t>
                            </m:r>
                            <m:sSub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780560" y="3502080"/>
            <a:ext cx="2006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ssume symmet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round the beam ax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771640" y="4076640"/>
            <a:ext cx="50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6960" y="5853240"/>
            <a:ext cx="5718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eryllium: A = 9g/mol,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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g/c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, 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= 6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/mo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8040" y="6284880"/>
            <a:ext cx="712080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Comic Sans MS"/>
              </a:rPr>
              <a:t>equ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=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f(L=100mm) = 82mm with f(L) Eq.7 Ambrosini et al. CERN-EP/99-1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11640" y="4437000"/>
            <a:ext cx="1584360" cy="12970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995280" y="5516640"/>
            <a:ext cx="36036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627160" y="3621240"/>
            <a:ext cx="23205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umber of particles 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16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p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Comic Sans MS"/>
              </a:rPr>
              <a:t>T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bin and j</a:t>
            </a:r>
            <a:r>
              <a:rPr b="0" lang="en-GB" sz="1600" spc="-1" strike="noStrike" baseline="30000">
                <a:solidFill>
                  <a:srgbClr val="000000"/>
                </a:solidFill>
                <a:latin typeface="Comic Sans MS"/>
              </a:rPr>
              <a:t>th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b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04000" y="4005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5400000">
            <a:off x="6871320" y="4504320"/>
            <a:ext cx="81000" cy="2520720"/>
          </a:xfrm>
          <a:custGeom>
            <a:avLst/>
            <a:gdLst>
              <a:gd name="textAreaLeft" fmla="*/ 0 w 81000"/>
              <a:gd name="textAreaRight" fmla="*/ 29160 w 8100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55800" y="573408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n width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Results (1/4)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22" name=""/>
          <p:cNvSpPr/>
          <p:nvPr/>
        </p:nvSpPr>
        <p:spPr>
          <a:xfrm>
            <a:off x="6979320" y="1952640"/>
            <a:ext cx="1555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= p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/p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Comic Sans MS"/>
              </a:rPr>
              <a:t>Be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4920" y="1341360"/>
            <a:ext cx="6934320" cy="5048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018480" y="3573360"/>
            <a:ext cx="30884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 dots are from Tab. 1 o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. Bonesini et 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Results (2/4)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39720" y="1171440"/>
            <a:ext cx="7532640" cy="562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Results (3/4)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6819840" cy="51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Results (4/4)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143000" y="1165320"/>
            <a:ext cx="6858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M. Bonesini et al. parameterization (BMPT)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4145" t="0" r="0" b="2870"/>
          <a:stretch/>
        </p:blipFill>
        <p:spPr>
          <a:xfrm>
            <a:off x="539640" y="1341360"/>
            <a:ext cx="7488360" cy="2089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55640" y="3789360"/>
            <a:ext cx="4319640" cy="1314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34" name=""/>
          <p:cNvSpPr/>
          <p:nvPr/>
        </p:nvSpPr>
        <p:spPr>
          <a:xfrm>
            <a:off x="826920" y="5157720"/>
            <a:ext cx="785052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rameters fit on SPY &amp; Na20 data and then allow one to extrapolate to other use cases: diff. proton energy, diff. target materi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30280" y="2924280"/>
            <a:ext cx="113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, K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434920" y="4149720"/>
            <a:ext cx="207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GB" sz="32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GB" sz="32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, K</a:t>
            </a:r>
            <a:r>
              <a:rPr b="0" lang="en-GB" sz="32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/K</a:t>
            </a:r>
            <a:r>
              <a:rPr b="0" lang="en-GB" sz="32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41400" y="3500280"/>
            <a:ext cx="1569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Comic Sans MS"/>
              </a:rPr>
              <a:t>x</a:t>
            </a:r>
            <a:r>
              <a:rPr b="0" lang="en-GB" sz="2000" spc="-1" strike="noStrike" baseline="-25000">
                <a:solidFill>
                  <a:srgbClr val="3333ff"/>
                </a:solidFill>
                <a:latin typeface="Comic Sans MS"/>
              </a:rPr>
              <a:t>R</a:t>
            </a:r>
            <a:r>
              <a:rPr b="0" lang="en-GB" sz="2000" spc="-1" strike="noStrike">
                <a:solidFill>
                  <a:srgbClr val="3333ff"/>
                </a:solidFill>
                <a:latin typeface="Comic Sans MS"/>
              </a:rPr>
              <a:t> ~ p/p</a:t>
            </a:r>
            <a:r>
              <a:rPr b="0" lang="en-GB" sz="2000" spc="-1" strike="noStrike" baseline="-25000">
                <a:solidFill>
                  <a:srgbClr val="3333ff"/>
                </a:solidFill>
                <a:latin typeface="Comic Sans MS"/>
              </a:rPr>
              <a:t>prot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09:40:46Z</dcterms:created>
  <dc:creator>J.E Campagne</dc:creator>
  <dc:description/>
  <dc:language>en-US</dc:language>
  <cp:lastModifiedBy>J.E Campagne</cp:lastModifiedBy>
  <dcterms:modified xsi:type="dcterms:W3CDTF">2005-04-01T13:33:39Z</dcterms:modified>
  <cp:revision>21</cp:revision>
  <dc:subject/>
  <dc:title>pBe (400GeV/c)</dc:title>
</cp:coreProperties>
</file>